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wmf" ContentType="image/x-wmf"/>
  <Override PartName="/ppt/media/image3.png" ContentType="image/png"/>
  <Override PartName="/ppt/media/image13.wmf" ContentType="image/x-wmf"/>
  <Override PartName="/ppt/media/image8.wmf" ContentType="image/x-wmf"/>
  <Override PartName="/ppt/media/image10.wmf" ContentType="image/x-wmf"/>
  <Override PartName="/ppt/media/image4.jpeg" ContentType="image/jpeg"/>
  <Override PartName="/ppt/media/image19.wmf" ContentType="image/x-wmf"/>
  <Override PartName="/ppt/media/image17.png" ContentType="image/png"/>
  <Override PartName="/ppt/media/image16.wmf" ContentType="image/x-wmf"/>
  <Override PartName="/ppt/media/image14.wmf" ContentType="image/x-wmf"/>
  <Override PartName="/ppt/media/image9.wmf" ContentType="image/x-wmf"/>
  <Override PartName="/ppt/media/image15.wmf" ContentType="image/x-wmf"/>
  <Override PartName="/ppt/media/image1.jpeg" ContentType="image/jpeg"/>
  <Override PartName="/ppt/media/image2.jpeg" ContentType="image/jpeg"/>
  <Override PartName="/ppt/media/image5.jpeg" ContentType="image/jpeg"/>
  <Override PartName="/ppt/media/image20.wmf" ContentType="image/x-wmf"/>
  <Override PartName="/ppt/media/image6.jpeg" ContentType="image/jpeg"/>
  <Override PartName="/ppt/media/image12.wmf" ContentType="image/x-wmf"/>
  <Override PartName="/ppt/media/image7.jpeg" ContentType="image/jpeg"/>
  <Override PartName="/ppt/media/image1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2.bin" ContentType="application/vnd.openxmlformats-officedocument.oleObject"/>
  <Override PartName="/ppt/embeddings/oleObject3.xlsx" ContentType="application/vnd.openxmlformats-officedocument.spreadsheetml.sheet"/>
  <Override PartName="/ppt/embeddings/oleObject4.xlsx" ContentType="application/vnd.openxmlformats-officedocument.spreadsheetml.sheet"/>
  <Override PartName="/ppt/embeddings/oleObject5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E4C85-A4CC-42D4-AE11-493B5DDCD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04B9E-C41C-4DAA-8530-CEFB8B635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79CC8-21CD-431F-B0EB-7C0830C00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8960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796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8960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796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EA0BA-1685-4522-8378-A42F67B60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AF490-A953-4AE7-83CC-D57DAA15E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39D6C-A5B2-4789-BF57-696CDF767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E7FC7-8B05-4E3C-8E1A-60244588B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E923C-94BB-49B3-AC9A-ACF741BF7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70106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C43F9-E0D5-4797-B733-70374207A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0B37F-0972-4D17-BD2A-7658D0D5E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9B89B-CEBC-4D7A-A341-F8EAAA0A0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64FD7-5A93-4486-A008-F69BB59E8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Click to edit the title text forma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lick to edit the outline text forma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con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Thir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our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4" marL="2057400" indent="-228600">
              <a:spcBef>
                <a:spcPts val="799"/>
              </a:spcBef>
              <a:buClr>
                <a:srgbClr val="3a0e66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if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ix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ven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7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0477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76B76-9314-43EE-8310-47686DFD9624}" type="slidenum">
              <a:rPr b="0" lang="zh-TW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71520" y="6362640"/>
            <a:ext cx="506556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Confidential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14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15.wmf"/><Relationship Id="rId9" Type="http://schemas.openxmlformats.org/officeDocument/2006/relationships/package" Target="../embeddings/oleObject5.docx"/><Relationship Id="rId10" Type="http://schemas.openxmlformats.org/officeDocument/2006/relationships/image" Target="../media/image16.wmf"/><Relationship Id="rId11" Type="http://schemas.openxmlformats.org/officeDocument/2006/relationships/image" Target="../media/image17.png"/><Relationship Id="rId1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2361960"/>
            <a:ext cx="701028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Minion"/>
              </a:rPr>
              <a:t>Jerry</a:t>
            </a:r>
            <a:br>
              <a:rPr sz="7200"/>
            </a:br>
            <a:r>
              <a:rPr b="1" lang="en-US" sz="7200" spc="-1" strike="noStrike">
                <a:solidFill>
                  <a:srgbClr val="ffffff"/>
                </a:solidFill>
                <a:latin typeface="Minion"/>
              </a:rPr>
              <a:t>Project Status</a:t>
            </a:r>
            <a:endParaRPr b="1" lang="en-US" sz="7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4" name=""/>
          <p:cNvSpPr/>
          <p:nvPr/>
        </p:nvSpPr>
        <p:spPr>
          <a:xfrm>
            <a:off x="409680" y="4981680"/>
            <a:ext cx="4572000" cy="92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Minion"/>
                <a:ea typeface="文鼎中黑"/>
              </a:rPr>
              <a:t>Dr. W. Klebsch / L. Bon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2006-02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AAL DL Suppor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4572000" y="2951280"/>
            <a:ext cx="4284720" cy="37908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4584600" y="166680"/>
            <a:ext cx="1339920" cy="13748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584600" y="166680"/>
            <a:ext cx="1339920" cy="1374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016240" y="665280"/>
            <a:ext cx="45936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文鼎中黑"/>
              </a:rPr>
              <a:t>Na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文鼎中黑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文鼎中黑"/>
              </a:rPr>
              <a:t>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000000"/>
                </a:solidFill>
                <a:latin typeface="Arial"/>
                <a:ea typeface="文鼎中黑"/>
              </a:rPr>
              <a:t>(SIS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508880" y="169920"/>
            <a:ext cx="1216080" cy="6192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508880" y="169920"/>
            <a:ext cx="1216080" cy="619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711920" y="304920"/>
            <a:ext cx="9165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文鼎中黑"/>
              </a:rPr>
              <a:t>Jav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文鼎中黑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527960" y="878040"/>
            <a:ext cx="426960" cy="1364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527960" y="878040"/>
            <a:ext cx="426960" cy="1364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527960" y="1014480"/>
            <a:ext cx="1238040" cy="525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527960" y="1014480"/>
            <a:ext cx="1238040" cy="5252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709760" y="1096920"/>
            <a:ext cx="816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文鼎中黑"/>
              </a:rPr>
              <a:t>Jav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文鼎中黑"/>
              </a:rPr>
              <a:t>Frame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584600" y="1604880"/>
            <a:ext cx="4222800" cy="6397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584600" y="1604880"/>
            <a:ext cx="4222800" cy="63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622840" y="1824120"/>
            <a:ext cx="2455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文鼎中黑"/>
              </a:rPr>
              <a:t>Application Engines and Serv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000000"/>
                </a:solidFill>
                <a:latin typeface="Arial"/>
                <a:ea typeface="文鼎中黑"/>
              </a:rPr>
              <a:t>(SISL/BE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584600" y="2333520"/>
            <a:ext cx="4222800" cy="5940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584600" y="2352600"/>
            <a:ext cx="4222800" cy="59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090480" y="2530440"/>
            <a:ext cx="1422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文鼎中黑"/>
              </a:rPr>
              <a:t>Peripheral Serv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000000"/>
                </a:solidFill>
                <a:latin typeface="Arial"/>
                <a:ea typeface="文鼎中黑"/>
              </a:rPr>
              <a:t>(SISL/BE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107040" y="169920"/>
            <a:ext cx="1258920" cy="1369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107040" y="169920"/>
            <a:ext cx="1258920" cy="1369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566760" y="665280"/>
            <a:ext cx="50976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文鼎中黑"/>
              </a:rPr>
              <a:t>Raw 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000000"/>
                </a:solidFill>
                <a:latin typeface="Arial"/>
                <a:ea typeface="文鼎中黑"/>
              </a:rPr>
              <a:t>(SIS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472560" y="907920"/>
            <a:ext cx="7797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Minion"/>
                <a:ea typeface="文鼎中黑"/>
              </a:rPr>
              <a:t>SI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Minion"/>
                <a:ea typeface="文鼎中黑"/>
              </a:rPr>
              <a:t>BE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Minion"/>
                <a:ea typeface="文鼎中黑"/>
              </a:rPr>
              <a:t>A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56000" y="2492280"/>
            <a:ext cx="4608720" cy="4249800"/>
          </a:xfrm>
          <a:prstGeom prst="rect">
            <a:avLst/>
          </a:prstGeom>
          <a:noFill/>
          <a:ln w="47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56000" y="115920"/>
            <a:ext cx="4608720" cy="1657440"/>
          </a:xfrm>
          <a:prstGeom prst="rect">
            <a:avLst/>
          </a:prstGeom>
          <a:noFill/>
          <a:ln w="47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356000" y="1484280"/>
            <a:ext cx="4608720" cy="1224000"/>
          </a:xfrm>
          <a:prstGeom prst="rect">
            <a:avLst/>
          </a:prstGeom>
          <a:noFill/>
          <a:ln w="47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DL Workareas/packages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1941480" y="5540400"/>
          <a:ext cx="914400" cy="714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1480" y="5540400"/>
                    <a:ext cx="914400" cy="71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7" name=""/>
          <p:cNvGraphicFramePr/>
          <p:nvPr/>
        </p:nvGraphicFramePr>
        <p:xfrm>
          <a:off x="2876400" y="5540400"/>
          <a:ext cx="914400" cy="714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76400" y="5540400"/>
                    <a:ext cx="914400" cy="71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9" name=""/>
          <p:cNvGraphicFramePr/>
          <p:nvPr/>
        </p:nvGraphicFramePr>
        <p:xfrm>
          <a:off x="3884760" y="5540400"/>
          <a:ext cx="914400" cy="71424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884760" y="5540400"/>
                    <a:ext cx="914400" cy="71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1" name=""/>
          <p:cNvGraphicFramePr/>
          <p:nvPr/>
        </p:nvGraphicFramePr>
        <p:xfrm>
          <a:off x="4821120" y="5535720"/>
          <a:ext cx="914400" cy="71424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821120" y="5535720"/>
                    <a:ext cx="914400" cy="71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"/>
          <p:cNvSpPr/>
          <p:nvPr/>
        </p:nvSpPr>
        <p:spPr>
          <a:xfrm>
            <a:off x="1900440" y="5157720"/>
            <a:ext cx="501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ffffff"/>
                </a:solidFill>
                <a:latin typeface="Minion"/>
                <a:ea typeface="文鼎中黑"/>
              </a:rPr>
              <a:t>Steckbreif   Styleguide        UE          Featurelist    dHW del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5829480" y="5540400"/>
          <a:ext cx="914400" cy="714240"/>
        </p:xfrm>
        <a:graphic>
          <a:graphicData uri="http://schemas.openxmlformats.org/presentationml/2006/ole">
            <p:oleObj progId="Word.Document.12" r:id="rId9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829480" y="5540400"/>
                    <a:ext cx="914400" cy="71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6" name="" descr=""/>
          <p:cNvPicPr/>
          <p:nvPr/>
        </p:nvPicPr>
        <p:blipFill>
          <a:blip r:embed="rId11"/>
          <a:stretch/>
        </p:blipFill>
        <p:spPr>
          <a:xfrm>
            <a:off x="324000" y="1197000"/>
            <a:ext cx="8296200" cy="36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Risks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539640" y="1484280"/>
            <a:ext cx="8099640" cy="15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Integration Management suppor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179280" y="1052640"/>
          <a:ext cx="4076640" cy="228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052640"/>
                    <a:ext cx="407664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2" name=""/>
          <p:cNvGraphicFramePr/>
          <p:nvPr/>
        </p:nvGraphicFramePr>
        <p:xfrm>
          <a:off x="3924360" y="3573360"/>
          <a:ext cx="4437000" cy="2970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24360" y="3573360"/>
                    <a:ext cx="4437000" cy="297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3a0e66"/>
                </a:solidFill>
                <a:latin typeface="Minion"/>
              </a:rPr>
              <a:t>Integration Management - approach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3a0e66"/>
                </a:solidFill>
                <a:latin typeface="Minion"/>
              </a:rPr>
              <a:t>Facts: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3a0e66"/>
                </a:solidFill>
                <a:latin typeface="Minion"/>
              </a:rPr>
              <a:t>Stabil Aries SW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3a0e66"/>
                </a:solidFill>
                <a:latin typeface="Minion"/>
              </a:rPr>
              <a:t>Very short term development time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3a0e66"/>
                </a:solidFill>
                <a:latin typeface="Minion"/>
              </a:rPr>
              <a:t>Consequence: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3a0e66"/>
                </a:solidFill>
                <a:latin typeface="Minion"/>
              </a:rPr>
              <a:t>Stabilisation and protection of the SW MUST be managed and controlled through out the whole development cycle  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3a0e66"/>
                </a:solidFill>
                <a:latin typeface="Minion"/>
              </a:rPr>
              <a:t>Strict planning of integration points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3a0e66"/>
                </a:solidFill>
                <a:latin typeface="Minion"/>
              </a:rPr>
              <a:t>Filtering sw maturity deliverires (Qualitity gates, tests) 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3a0e66"/>
                </a:solidFill>
                <a:latin typeface="Minion"/>
              </a:rPr>
              <a:t>Non-immediate workflow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3a0e66"/>
                </a:solidFill>
                <a:latin typeface="Minion"/>
              </a:rPr>
              <a:t>Incremental integration sequence (layer dependencies)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3a0e66"/>
                </a:solidFill>
                <a:latin typeface="Minion"/>
              </a:rPr>
              <a:t>Release Management: 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3a0e66"/>
                </a:solidFill>
                <a:latin typeface="Minion"/>
              </a:rPr>
              <a:t>Iterative process with main release every second week, bugfix follow the week after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3a0e66"/>
                </a:solidFill>
                <a:latin typeface="Minion"/>
              </a:rPr>
              <a:t>ClearQuest bug tracing from the start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3a0e66"/>
                </a:solidFill>
                <a:latin typeface="Minion"/>
              </a:rPr>
              <a:t>All development on one DB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3a0e66"/>
                </a:solidFill>
                <a:latin typeface="Minion"/>
              </a:rPr>
              <a:t>Seek to avoid distributed development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3a0e66"/>
                </a:solidFill>
                <a:latin typeface="Minion"/>
              </a:rPr>
              <a:t>SCRUM</a:t>
            </a:r>
            <a:r>
              <a:rPr b="0" lang="da-DK" sz="1800" spc="-1" strike="noStrike">
                <a:solidFill>
                  <a:srgbClr val="3a0e66"/>
                </a:solidFill>
                <a:latin typeface="Minion"/>
              </a:rPr>
              <a:t> approach (i.e. target for next release etc.)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Integration Managemen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3a0e66"/>
                </a:solidFill>
                <a:latin typeface="Minion"/>
              </a:rPr>
              <a:t>Status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00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a0e66"/>
                </a:solidFill>
                <a:latin typeface="Minion"/>
              </a:rPr>
              <a:t>IDB in BEJ with Aries SVN 25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00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a0e66"/>
                </a:solidFill>
                <a:latin typeface="Minion"/>
              </a:rPr>
              <a:t>CDB in AAL in sync 09.02.2006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00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a0e66"/>
                </a:solidFill>
                <a:latin typeface="Minion"/>
              </a:rPr>
              <a:t>Workflow TBD in workshop (wk 07)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Definition of a SW packages from SISL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Sneak preview from PSE/STSL/SISL 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Release Management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Tracking team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00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3a0e66"/>
                </a:solidFill>
                <a:latin typeface="Minion"/>
              </a:rPr>
              <a:t>OTC (Official Tool Chain) TBC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Production tooling (Lauterbach, winswup, bfc, etc.)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Agenda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Monday 13.02.06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1" marL="727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10:00 – 10:30</a:t>
            </a: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Introduction / background (Koh Kheng Wah)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727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727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10:30 – 11:00</a:t>
            </a: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Current project setup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2" marL="1119960" indent="-22392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3a0e66"/>
                </a:solidFill>
                <a:latin typeface="Minion"/>
              </a:rPr>
              <a:t>Organisation – Set-up BEJ and AAL – PL-T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2" marL="1119960" indent="-22392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3a0e66"/>
                </a:solidFill>
                <a:latin typeface="Minion"/>
              </a:rPr>
              <a:t>Communication scenarios, mailing lists PL-T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27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727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11:00 – 12:00</a:t>
            </a: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Project status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2" marL="1119960" indent="-22392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3a0e66"/>
                </a:solidFill>
                <a:latin typeface="Minion"/>
              </a:rPr>
              <a:t>Status HW/MD/ID – Aalborg – HW-PPL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2" marL="1119960" indent="-22392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3a0e66"/>
                </a:solidFill>
                <a:latin typeface="Minion"/>
              </a:rPr>
              <a:t>Status SW – Beijing – SW-PPL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27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727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12:00 – 13:30</a:t>
            </a: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Lunch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727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727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13:30 – 17:00</a:t>
            </a: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Define process (tailoring) – Thomas Bartel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2" marL="1119960" indent="-22392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3a0e66"/>
                </a:solidFill>
                <a:latin typeface="Minion"/>
              </a:rPr>
              <a:t>Milestones for HW/SW/ST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2" marL="1119960" indent="-22392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3a0e66"/>
                </a:solidFill>
                <a:latin typeface="Minion"/>
              </a:rPr>
              <a:t>Synchronization points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2" marL="1119960" indent="-22392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3a0e66"/>
                </a:solidFill>
                <a:latin typeface="Minion"/>
              </a:rPr>
              <a:t>Define key activities (must have) for each milestones and nice to have’s (based on MEP 7.02)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279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Agenda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Tuesday 14.02.06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9:00 – 17:00</a:t>
            </a: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Work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Split in 3 main groups:  HW, SW and ST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SW: define work packages, feasibility study, CM scenario, contractors, contracts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HW: </a:t>
            </a:r>
            <a:r>
              <a:rPr b="0" lang="en-US" sz="2400" spc="-1" strike="noStrike">
                <a:solidFill>
                  <a:srgbClr val="3a0e66"/>
                </a:solidFill>
                <a:latin typeface="Minion"/>
              </a:rPr>
              <a:t>review stack-up concept, mechanical design, layout, part list, suppliers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ST: HW performance test, TA, Cradle/fixture, Test spec, R&amp;D support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Agenda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Wednesday 15.02.06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9:00 – 12:00</a:t>
            </a: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Continue with work started on Tuesday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12:00 – 13:30</a:t>
            </a: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Lunch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13:30 – 17:00</a:t>
            </a: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Project planning per department (PL-T)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451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3a0e66"/>
                </a:solidFill>
                <a:latin typeface="Minion"/>
              </a:rPr>
              <a:t>Create planning per department and define dependencies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451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3a0e66"/>
                </a:solidFill>
                <a:latin typeface="Minion"/>
              </a:rPr>
              <a:t>Input planning in PV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Agenda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Minion"/>
              </a:rPr>
              <a:t>Thursday 16.02.06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lvl="2" marL="113148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735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9:00 – 9:30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Prototype shops (LCM1 &amp; 3)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2" marL="1131480" indent="-226080">
              <a:spcBef>
                <a:spcPts val="400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3a0e66"/>
                </a:solidFill>
                <a:latin typeface="Minion"/>
              </a:rPr>
              <a:t>Define which prototype runs take place where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35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35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9:30-12:00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Create handover planning (PPL)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2" marL="1131480" indent="-226080">
              <a:spcBef>
                <a:spcPts val="400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3a0e66"/>
                </a:solidFill>
                <a:latin typeface="Minion"/>
              </a:rPr>
              <a:t>Detailed steps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2" marL="113148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35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3a0e66"/>
                </a:solidFill>
                <a:latin typeface="Minion"/>
              </a:rPr>
              <a:t>12:00 – 13:30</a:t>
            </a:r>
            <a:r>
              <a:rPr b="0" lang="da-DK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1600" spc="-1" strike="noStrike">
                <a:solidFill>
                  <a:srgbClr val="3a0e66"/>
                </a:solidFill>
                <a:latin typeface="Minion"/>
              </a:rPr>
              <a:t>Lunch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35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35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3a0e66"/>
                </a:solidFill>
                <a:latin typeface="Minion"/>
              </a:rPr>
              <a:t>13:30 – 16:00</a:t>
            </a:r>
            <a:r>
              <a:rPr b="0" lang="da-DK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1600" spc="-1" strike="noStrike">
                <a:solidFill>
                  <a:srgbClr val="3a0e66"/>
                </a:solidFill>
                <a:latin typeface="Minion"/>
              </a:rPr>
              <a:t>Optimize planning (PL-T)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2" marL="1131480" indent="-226080">
              <a:spcBef>
                <a:spcPts val="400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3a0e66"/>
                </a:solidFill>
                <a:latin typeface="Minion"/>
              </a:rPr>
              <a:t>Based on input from work-days and dependencies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2" marL="1131480" indent="-226080">
              <a:spcBef>
                <a:spcPts val="400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3a0e66"/>
                </a:solidFill>
                <a:latin typeface="Minion"/>
              </a:rPr>
              <a:t>Create committed milestone planning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2" marL="113148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35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16:00-17:30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Conclusion (PL-T)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2" marL="1131480" indent="-226080">
              <a:spcBef>
                <a:spcPts val="400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3a0e66"/>
                </a:solidFill>
                <a:latin typeface="Minion"/>
              </a:rPr>
              <a:t>Identify open action items and plan activities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2" marL="1131480" indent="-226080">
              <a:spcBef>
                <a:spcPts val="400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3a0e66"/>
                </a:solidFill>
                <a:latin typeface="Minion"/>
              </a:rPr>
              <a:t>How far are we from S0/M1?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Project Organization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04920" y="1066680"/>
            <a:ext cx="8534160" cy="47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JERRY Design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00040" y="1676520"/>
            <a:ext cx="4376880" cy="41940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943600" y="1447920"/>
            <a:ext cx="2333520" cy="48672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42000" y="958680"/>
            <a:ext cx="398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…</a:t>
            </a:r>
            <a:r>
              <a:rPr b="0" lang="de-DE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as agreed with Vodaf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61120" y="958680"/>
            <a:ext cx="303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… </a:t>
            </a:r>
            <a:r>
              <a:rPr b="0" lang="de-DE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with Aries Displ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JERRY Design – current stackup (SGlite)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371600" y="685800"/>
            <a:ext cx="5907240" cy="536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Milestones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3640" y="907920"/>
            <a:ext cx="4825800" cy="532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3a0e66"/>
                </a:solidFill>
                <a:latin typeface="Minion"/>
              </a:rPr>
              <a:t>M0: </a:t>
            </a:r>
            <a:r>
              <a:rPr b="0" lang="da-DK" sz="20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0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000" spc="-1" strike="noStrike">
                <a:solidFill>
                  <a:srgbClr val="3a0e66"/>
                </a:solidFill>
                <a:latin typeface="Minion"/>
              </a:rPr>
              <a:t>03/02-06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3a0e66"/>
                </a:solidFill>
                <a:latin typeface="Minion"/>
              </a:rPr>
              <a:t>S0: </a:t>
            </a:r>
            <a:r>
              <a:rPr b="0" lang="da-DK" sz="20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0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000" spc="-1" strike="noStrike">
                <a:solidFill>
                  <a:srgbClr val="3a0e66"/>
                </a:solidFill>
                <a:latin typeface="Minion"/>
              </a:rPr>
              <a:t>28/02-06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3a0e66"/>
                </a:solidFill>
                <a:latin typeface="Minion"/>
              </a:rPr>
              <a:t>M1: </a:t>
            </a:r>
            <a:r>
              <a:rPr b="0" lang="da-DK" sz="20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0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000" spc="-1" strike="noStrike">
                <a:solidFill>
                  <a:srgbClr val="3a0e66"/>
                </a:solidFill>
                <a:latin typeface="Minion"/>
              </a:rPr>
              <a:t>14/03-06 A1/B1 + DL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3a0e66"/>
                </a:solidFill>
                <a:latin typeface="Minion"/>
              </a:rPr>
              <a:t>S15:</a:t>
            </a:r>
            <a:r>
              <a:rPr b="0" lang="da-DK" sz="20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0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000" spc="-1" strike="noStrike">
                <a:solidFill>
                  <a:srgbClr val="3a0e66"/>
                </a:solidFill>
                <a:latin typeface="Minion"/>
              </a:rPr>
              <a:t>18/04-06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3a0e66"/>
                </a:solidFill>
                <a:latin typeface="Minion"/>
              </a:rPr>
              <a:t>S2:</a:t>
            </a:r>
            <a:r>
              <a:rPr b="0" lang="da-DK" sz="20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0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000" spc="-1" strike="noStrike">
                <a:solidFill>
                  <a:srgbClr val="3a0e66"/>
                </a:solidFill>
                <a:latin typeface="Minion"/>
              </a:rPr>
              <a:t>17/05-06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3a0e66"/>
                </a:solidFill>
                <a:latin typeface="Minion"/>
              </a:rPr>
              <a:t>S25:</a:t>
            </a:r>
            <a:r>
              <a:rPr b="0" lang="da-DK" sz="20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0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000" spc="-1" strike="noStrike">
                <a:solidFill>
                  <a:srgbClr val="3a0e66"/>
                </a:solidFill>
                <a:latin typeface="Minion"/>
              </a:rPr>
              <a:t>22/06-06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4360" y="3213000"/>
            <a:ext cx="7095960" cy="32814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4861080" y="981000"/>
            <a:ext cx="3671640" cy="532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S3:</a:t>
            </a:r>
            <a:r>
              <a:rPr b="0" lang="da-DK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0" lang="da-DK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0" lang="da-DK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14/08-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AS:</a:t>
            </a:r>
            <a:r>
              <a:rPr b="0" lang="da-DK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0" lang="da-DK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0" lang="da-DK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14/08-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S3-HW:</a:t>
            </a:r>
            <a:r>
              <a:rPr b="0" lang="da-DK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0" lang="da-DK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17/08-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PS:</a:t>
            </a:r>
            <a:r>
              <a:rPr b="0" lang="da-DK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0" lang="da-DK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0" lang="da-DK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01/09-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DS: </a:t>
            </a:r>
            <a:r>
              <a:rPr b="0" lang="da-DK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0" lang="da-DK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0" lang="da-DK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15/09-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M3/S4:</a:t>
            </a:r>
            <a:r>
              <a:rPr b="0" lang="da-DK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	</a:t>
            </a:r>
            <a:r>
              <a:rPr b="0" lang="da-DK" sz="2000" spc="-1" strike="noStrike">
                <a:solidFill>
                  <a:srgbClr val="3a0e66"/>
                </a:solidFill>
                <a:latin typeface="Minion"/>
                <a:ea typeface="文鼎中黑"/>
              </a:rPr>
              <a:t>09/10-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Jerry Milestones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23640" y="907920"/>
            <a:ext cx="4825800" cy="532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3a0e66"/>
                </a:solidFill>
                <a:latin typeface="Minion"/>
              </a:rPr>
              <a:t>M0: </a:t>
            </a:r>
            <a:r>
              <a:rPr b="0" lang="da-DK" sz="20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0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000" spc="-1" strike="noStrike">
                <a:solidFill>
                  <a:srgbClr val="3a0e66"/>
                </a:solidFill>
                <a:latin typeface="Minion"/>
              </a:rPr>
              <a:t>23/02-06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3a0e66"/>
                </a:solidFill>
                <a:latin typeface="Minion"/>
              </a:rPr>
              <a:t>S0: </a:t>
            </a:r>
            <a:r>
              <a:rPr b="0" lang="da-DK" sz="20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0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000" spc="-1" strike="noStrike">
                <a:solidFill>
                  <a:srgbClr val="3a0e66"/>
                </a:solidFill>
                <a:latin typeface="Minion"/>
              </a:rPr>
              <a:t>28/02-06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3a0e66"/>
                </a:solidFill>
                <a:latin typeface="Minion"/>
              </a:rPr>
              <a:t>M1: </a:t>
            </a:r>
            <a:r>
              <a:rPr b="0" lang="da-DK" sz="20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0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000" spc="-1" strike="noStrike">
                <a:solidFill>
                  <a:srgbClr val="3a0e66"/>
                </a:solidFill>
                <a:latin typeface="Minion"/>
              </a:rPr>
              <a:t>21/03-06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3a0e66"/>
                </a:solidFill>
                <a:latin typeface="Minion"/>
              </a:rPr>
              <a:t>S15:</a:t>
            </a:r>
            <a:r>
              <a:rPr b="0" lang="da-DK" sz="20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0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000" spc="-1" strike="noStrike">
                <a:solidFill>
                  <a:srgbClr val="3a0e66"/>
                </a:solidFill>
                <a:latin typeface="Minion"/>
              </a:rPr>
              <a:t>25/04-06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3a0e66"/>
                </a:solidFill>
                <a:latin typeface="Minion"/>
              </a:rPr>
              <a:t>S2:</a:t>
            </a:r>
            <a:r>
              <a:rPr b="0" lang="da-DK" sz="20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0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000" spc="-1" strike="noStrike">
                <a:solidFill>
                  <a:srgbClr val="3a0e66"/>
                </a:solidFill>
                <a:latin typeface="Minion"/>
              </a:rPr>
              <a:t>04/07-06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3a0e66"/>
                </a:solidFill>
                <a:latin typeface="Minion"/>
              </a:rPr>
              <a:t>S25:</a:t>
            </a:r>
            <a:r>
              <a:rPr b="0" lang="da-DK" sz="20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0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000" spc="-1" strike="noStrike">
                <a:solidFill>
                  <a:srgbClr val="3a0e66"/>
                </a:solidFill>
                <a:latin typeface="Minion"/>
              </a:rPr>
              <a:t>01/08-06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3a0e66"/>
                </a:solidFill>
                <a:latin typeface="Minion"/>
              </a:rPr>
              <a:t>S3:</a:t>
            </a:r>
            <a:r>
              <a:rPr b="0" lang="da-DK" sz="20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0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000" spc="-1" strike="noStrike">
                <a:solidFill>
                  <a:srgbClr val="3a0e66"/>
                </a:solidFill>
                <a:latin typeface="Minion"/>
              </a:rPr>
              <a:t>31/08-06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3a0e66"/>
                </a:solidFill>
                <a:latin typeface="Minion"/>
              </a:rPr>
              <a:t>PS:</a:t>
            </a:r>
            <a:r>
              <a:rPr b="0" lang="da-DK" sz="20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0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000" spc="-1" strike="noStrike">
                <a:solidFill>
                  <a:srgbClr val="3a0e66"/>
                </a:solidFill>
                <a:latin typeface="Minion"/>
              </a:rPr>
              <a:t>14/09-06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3a0e66"/>
                </a:solidFill>
                <a:latin typeface="Minion"/>
              </a:rPr>
              <a:t>DS: </a:t>
            </a:r>
            <a:r>
              <a:rPr b="0" lang="da-DK" sz="20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0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000" spc="-1" strike="noStrike">
                <a:solidFill>
                  <a:srgbClr val="3a0e66"/>
                </a:solidFill>
                <a:latin typeface="Minion"/>
              </a:rPr>
              <a:t>28/09-06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3a0e66"/>
                </a:solidFill>
                <a:latin typeface="Minion"/>
              </a:rPr>
              <a:t>M3/S4:</a:t>
            </a:r>
            <a:r>
              <a:rPr b="0" lang="da-DK" sz="20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2000" spc="-1" strike="noStrike">
                <a:solidFill>
                  <a:srgbClr val="3a0e66"/>
                </a:solidFill>
                <a:latin typeface="Minion"/>
              </a:rPr>
              <a:t>26/10-06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0" name=""/>
          <p:cNvSpPr/>
          <p:nvPr/>
        </p:nvSpPr>
        <p:spPr>
          <a:xfrm>
            <a:off x="4861080" y="981000"/>
            <a:ext cx="3671640" cy="532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Software Effort Estimation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304920" y="817560"/>
            <a:ext cx="8381880" cy="41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Software Effort Estimation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04920" y="838080"/>
            <a:ext cx="8478720" cy="537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Project organization - Device Layer 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0" y="1108080"/>
          <a:ext cx="9144000" cy="512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108080"/>
                    <a:ext cx="9144000" cy="512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2T11:20:28Z</dcterms:created>
  <dc:creator>Xinbing Mao</dc:creator>
  <dc:description/>
  <dc:language>en-US</dc:language>
  <cp:lastModifiedBy>Wolfgang Klebsch</cp:lastModifiedBy>
  <dcterms:modified xsi:type="dcterms:W3CDTF">2006-02-10T09:41:40Z</dcterms:modified>
  <cp:revision>119</cp:revision>
  <dc:subject/>
  <dc:title>PowerPoint</dc:title>
</cp:coreProperties>
</file>